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B38-BFFC-49CA-9CD4-991435F5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0D34-4941-474D-9E96-98E54FA6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202-3A5A-4FBF-8668-AB2B0D6D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F01-BB72-4CE2-AC14-015EBA65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8C52-E6F0-45C4-85FC-2B25589C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198B-D22D-4B73-9C73-BB1ACA56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640B-7212-4AEA-95E6-B7C53C90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CF28-8E83-463D-9433-99FDD8E8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E5DE-9106-4F43-B0BA-FC941E6C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A269-82C0-4930-834C-558A8FEC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69FD-A3AD-4EA3-9864-99E07079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631E-1FAD-4E33-ACB9-297D4110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D41F-667D-4B43-8255-65208451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AC2F-CBB6-4006-BD02-092D9486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96EF-4D43-447E-9401-BD3CA54D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89A9-6BD7-403B-9DCB-34522749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F1B8-980B-4123-B9D9-610C05B2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EEF9-FDDD-4AAE-BCEA-7BF98D46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B79-B3EB-4CD2-9671-A66935BC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8FF-A090-4B80-A815-CD65FE1A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4E4C-31C9-4862-955F-6C328E42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9CD-C2B1-4964-BA24-D3410944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B0B-2A72-4E3F-A63A-DF0F864C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D5FE-AE43-48EA-AB5B-DB3694CA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5e70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7186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69a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7bead"/>
                </a:gs>
                <a:gs pos="100000">
                  <a:srgbClr val="a5bd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966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6376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2837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9c0b0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c57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46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cc2b2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37668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87b6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877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f5b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e6c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1948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77887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c2b2"/>
                  </a:gs>
                  <a:gs pos="100000">
                    <a:srgbClr val="a5bd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6E33-C8A7-4B0D-8875-521792694A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5e70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7186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69a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7bead"/>
                </a:gs>
                <a:gs pos="100000">
                  <a:srgbClr val="a5bd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966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6376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2837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9c0b0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c57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46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cc2b2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37668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87b6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877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f5b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e6c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1948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77887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c2b2"/>
                  </a:gs>
                  <a:gs pos="100000">
                    <a:srgbClr val="a5bd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A6C0-8CA6-4634-83A9-E870E5E4BB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71b9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4ca89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ree Branches of Governmen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lance of Pow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ecutive Branc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ident and His Appointe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867280" y="266688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848720" y="5638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93714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udicial Branc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reme Court Jud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Courts of App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er Federal Cou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gislative Branc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gr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 of Represent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791320" y="220968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315200" y="220968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791320" y="3886200"/>
            <a:ext cx="1295280" cy="971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22:19:32Z</dcterms:created>
  <dc:creator>Microsoft Corporation</dc:creator>
  <dc:description/>
  <dc:language>en-US</dc:language>
  <cp:lastModifiedBy>cworden</cp:lastModifiedBy>
  <dcterms:modified xsi:type="dcterms:W3CDTF">2008-08-14T18:54:49Z</dcterms:modified>
  <cp:revision>18</cp:revision>
  <dc:subject/>
  <dc:title>PPTNav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oHelpTopicID">
    <vt:lpwstr>RH010858241033</vt:lpwstr>
  </property>
</Properties>
</file>